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C563-58EA-47C5-9FDC-9D15C68AE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2C49-500C-427E-934D-6C9BDD300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99D-E6C5-4FA8-9A88-809FD0C29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CF8C-36A4-473F-9E97-4506EC2E8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BBA-8D6D-4AEF-9AB9-463508FE4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754-83FF-4339-8590-80DB7F46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680" y="353808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BE8-A4AA-4E11-A492-E3783AB9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3A2-2B84-420B-B806-0F155D10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24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80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68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24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80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211-F11B-442A-9CAC-4453543A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2F94-370F-45A5-B8CE-65EF9383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BD6-D950-4788-A101-A03DFC1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AC9-B705-4FAD-A27A-42DEF71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6BE-E546-467E-B006-1901C60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211-6A6E-4AC7-A57E-4B81E9C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274680"/>
            <a:ext cx="830556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D6D4-FECA-4DAD-801E-AEB9726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77AA-77F6-4661-8D12-AB4C0E9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291-5799-4031-88EE-691DD19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380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CBD0-7568-458D-8936-8373FB6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1E03-1C09-4270-A48B-31BF259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5680" y="353808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E2B-BE02-4982-83AD-E1BE29B6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380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CF4D-DFEF-47E0-B77E-6AC8047D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824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0800" y="73620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568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824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0800" y="3538080"/>
            <a:ext cx="27068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2335-9F0E-4216-9AA7-78604FF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BFC-A290-4047-859C-7B221C8C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452-2C87-42AD-B66D-0003C9F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F34-0221-4ADD-9B9D-213574C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274680"/>
            <a:ext cx="830556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95D-8C52-40A5-BC2F-021ACA12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19A-0783-4D0C-982F-189B6E5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53808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A1B-3D1A-4F7F-A95B-9E14DFE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265680"/>
            <a:ext cx="830556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68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736200"/>
            <a:ext cx="410256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680" y="3538080"/>
            <a:ext cx="840744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32D-596B-4F57-A11D-18FCDBC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24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cratch Off Game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48C5-A934-456C-A232-6B58914CE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406440" y="685800"/>
            <a:ext cx="8356680" cy="0"/>
          </a:xfrm>
          <a:prstGeom prst="line">
            <a:avLst/>
          </a:prstGeom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msla_letyourselfplay_logo"/>
          <p:cNvPicPr/>
          <p:nvPr/>
        </p:nvPicPr>
        <p:blipFill>
          <a:blip r:embed="rId2"/>
          <a:stretch/>
        </p:blipFill>
        <p:spPr>
          <a:xfrm>
            <a:off x="7315200" y="17640"/>
            <a:ext cx="1492200" cy="620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crestwood lg 100  03"/>
          <p:cNvPicPr/>
          <p:nvPr/>
        </p:nvPicPr>
        <p:blipFill>
          <a:blip r:embed="rId3"/>
          <a:srcRect l="0" t="0" r="0" b="20354"/>
          <a:stretch/>
        </p:blipFill>
        <p:spPr>
          <a:xfrm>
            <a:off x="3835440" y="6497640"/>
            <a:ext cx="14731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0044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24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cratch Off Game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A552-EA53-4EB1-900D-8B678242F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msla_letyourselfplay_logo"/>
          <p:cNvPicPr/>
          <p:nvPr/>
        </p:nvPicPr>
        <p:blipFill>
          <a:blip r:embed="rId1"/>
          <a:stretch/>
        </p:blipFill>
        <p:spPr>
          <a:xfrm>
            <a:off x="3227400" y="609480"/>
            <a:ext cx="2695680" cy="1362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9360" y="2263680"/>
            <a:ext cx="90982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yland State Lottery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atch Off Gam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Game 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nuary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308320" y="4816440"/>
            <a:ext cx="45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restwood lg 100  03"/>
          <p:cNvPicPr/>
          <p:nvPr/>
        </p:nvPicPr>
        <p:blipFill>
          <a:blip r:embed="rId2"/>
          <a:srcRect l="0" t="0" r="0" b="19264"/>
          <a:stretch/>
        </p:blipFill>
        <p:spPr>
          <a:xfrm>
            <a:off x="3267000" y="5180040"/>
            <a:ext cx="262116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305080" y="5892840"/>
            <a:ext cx="454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532 NE 6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. Ste. D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irkland, WA 98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bjectives &amp;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udy Objectiv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bjectives specific to this quantitative study are to determine the licensed Maryland Lottery Scratch-Off having the highest potential from the current alternatives; key evaluative metrics include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kelihood to purch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ase of understand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oss toleran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information obtained through this research will be used to gain insight into customer wants &amp; needs, as well as potential marketing opportunities for the MSL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restwood conducted 305 web based interviews among Maryland residents between January 14 and January 20, 201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terview length ranged from 14 to 30 minut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ll respondents were self identified players of Maryland Lottery Scratch Off games and were required to meet the following criteria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640080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6360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cratch Off Game Eval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39F-9918-4B96-8DE7-E82B1B216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81200" y="4206960"/>
          <a:ext cx="7467480" cy="1508040"/>
        </p:xfrm>
        <a:graphic>
          <a:graphicData uri="http://schemas.openxmlformats.org/drawingml/2006/table">
            <a:tbl>
              <a:tblPr/>
              <a:tblGrid>
                <a:gridCol w="1428480"/>
                <a:gridCol w="3205440"/>
                <a:gridCol w="1415880"/>
                <a:gridCol w="1417680"/>
              </a:tblGrid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Quota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esired Qu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mple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 Play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 or less Scratch-off game players who have played within the last week and typically play weekly.  All Regular Players play 2 or more Scratch-Off Games per wee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ght Play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 or less Scratch-off game players who have not played within the last two weeks but within the last 3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aluation Process &amp; Repor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5680" y="736200"/>
            <a:ext cx="8407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verall, 19 Scratch-Off games were evaluated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cratch-Off games were grouped by price point, prize type as well as play style into unique game categor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ll games were rotated within groups. Key metrics included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urchase Intere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ase of understanding, 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nticipated loss toleran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ame Evaluations were made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n the above metric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Crestwood Scratch Off Game Index was developed to evaluate each game according to its key business metric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326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eference within like games group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40080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6360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cratch Off Game Eval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8A1-2B56-4FA4-933D-9F108B38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789480" y="3641760"/>
            <a:ext cx="4504320" cy="68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((% Very Likely to Buy X 50%)+(%Somewhat Likely to Buy X 25%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ot Easy to Understand [Net]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X Average Plays Purchased) X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Y:\Active Projects\Scratch-Off Game Development - December 2009\Games for Testing\Second Chance Mail In Games\Tootsie Roll Prototype - Received on December 28, 2009.jpg"/>
          <p:cNvPicPr/>
          <p:nvPr/>
        </p:nvPicPr>
        <p:blipFill>
          <a:blip r:embed="rId1"/>
          <a:stretch/>
        </p:blipFill>
        <p:spPr>
          <a:xfrm>
            <a:off x="838080" y="914400"/>
            <a:ext cx="2614680" cy="26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Content Placeholder 7" descr=""/>
          <p:cNvPicPr/>
          <p:nvPr/>
        </p:nvPicPr>
        <p:blipFill>
          <a:blip r:embed="rId2"/>
          <a:stretch/>
        </p:blipFill>
        <p:spPr>
          <a:xfrm>
            <a:off x="4267080" y="838080"/>
            <a:ext cx="429912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ootsie Roll Game Summ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40080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6360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cratch Off Game Eval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E3A4-2AC5-4DEA-848A-A404BC03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3295800" cy="210348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11" descr=""/>
          <p:cNvPicPr/>
          <p:nvPr/>
        </p:nvPicPr>
        <p:blipFill>
          <a:blip r:embed="rId4"/>
          <a:stretch/>
        </p:blipFill>
        <p:spPr>
          <a:xfrm>
            <a:off x="457200" y="3914640"/>
            <a:ext cx="373536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1752480" y="423864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9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2600280" y="42829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429000" y="41911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4:27:18Z</dcterms:created>
  <dc:creator>Michael D. Wisnock</dc:creator>
  <dc:description/>
  <dc:language>en-US</dc:language>
  <cp:lastModifiedBy>Nicole Ramey</cp:lastModifiedBy>
  <dcterms:modified xsi:type="dcterms:W3CDTF">2010-03-08T22:22:28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53895412</vt:r8>
  </property>
  <property fmtid="{D5CDD505-2E9C-101B-9397-08002B2CF9AE}" pid="3" name="_AuthorEmail">
    <vt:lpwstr>nramey@msla.state.md.us</vt:lpwstr>
  </property>
  <property fmtid="{D5CDD505-2E9C-101B-9397-08002B2CF9AE}" pid="4" name="_AuthorEmailDisplayName">
    <vt:lpwstr>Ramey, Nicole (MSLA)</vt:lpwstr>
  </property>
  <property fmtid="{D5CDD505-2E9C-101B-9397-08002B2CF9AE}" pid="5" name="_EmailSubject">
    <vt:lpwstr>Maryland Lottery Quantitative Analysis</vt:lpwstr>
  </property>
</Properties>
</file>